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36265E-B7F2-45C4-9A32-A4C4B087E7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89F3BF-BE8B-4992-AA84-1E18D631C1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5015D1-5A51-48F0-B957-35BCB86BC8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B8AA64-D388-4888-AA47-83E40ADF8D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6D243C-B223-44A9-8858-849A631DB7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9A5D1F-856E-4E4B-A57F-4870FD476D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F5D2E8-CD0C-47EF-BF3D-9E64A0F2F1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7F69AB-F42B-468D-AC46-C0557B5115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7D5CFE-7380-4BD1-9863-C8ABE90406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74B1F1-F2DF-4D82-B47C-4094F2E009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F6F1E0-5977-49D3-80BC-39EAF6E0CB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60AD54-DB11-45E9-BF4F-2A3BA44793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549587-2BBD-497F-BE5A-91FE1568FF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1B3FF2-0AE7-4372-A6F1-DC043D7AAE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9B52F9-BA6A-4E84-8EB1-7438942B14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686AE8-04EC-4D63-B922-65C7017A5F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D5C5B7-9E17-4F78-8099-9B98FF0A5E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82ADEEC-BD64-4F2F-92F8-2B94AB6D86D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5297FE-A729-4216-950A-33054A9D66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9BDC8F-2C09-4BED-88F4-849497E6E5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F1413D-4EF7-4F10-8F7A-90611190C6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6B09E4-1399-482D-AE61-9506AEAFF2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F534BD-89EB-478C-887C-5CB63DD5DD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621DB6-916A-48EE-B4E8-6A144B3038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D8A477-27F9-43B7-81C1-645775F9AA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84FBC3-4C57-4D88-B84C-37ED04DEB4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8439DB-4986-498E-8F17-619302C205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344333-1205-4308-B387-61F1CAA124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8010B89-CE4B-440F-91CC-7D843F8F519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2156371-FB7A-4679-B148-8576A7E4274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BB4FE27-A9E5-473A-9F45-0059829B35D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AFE586-0091-4F35-9B1D-39C86843FE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D732CE-22F0-4D4A-9EE6-C4B9765E89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C06778-921D-4939-B721-13795B3CAD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F034A1-5AFF-431E-96F0-2259CD778E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771743-EFF1-4415-92CB-1466F47FFF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A919E5-B85E-45E3-B18E-835935DB80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D23242-AF12-4D0A-BDD8-14819971D8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D5A9B6-CF02-401B-8062-5C6B6F047F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B3D933-A613-4927-8828-E7F7BF5F66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B4F6C1-FA5A-475E-998F-D76EA82742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CAEE35B-985D-448E-A5AC-1D58AA0FCA9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BDBEF48-C7BD-4349-97D6-F59B1025658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14CE500-D559-4199-9D5F-05B05D813D1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DF6355-8C04-4551-81A0-47FAE8F8F2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95F9F3D-94F5-400C-BC6A-C285903C0C9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68235B0-EA4B-4036-80AF-0C3F55EAF0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036F7EC-17B8-4336-AAF8-7ED55D6629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7390D23-D9BA-46F8-B977-64FCE27D2D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4B7CBD-19EC-4651-9ADA-8D49A0D777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0A0824-41F8-419E-AE56-DA4A7CD3FD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0AA820-3545-450A-980B-94FF565C99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CEE801-8010-466C-B990-02EDD485B9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B048D99-07F6-473D-B37E-B392A57E6D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2E121CE-A9C6-4BE5-9923-0F356DBA668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6948B1-4AFE-4CD2-B548-B156B61576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2BBE156-22DA-473E-980A-9A511F274C6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CED6999-0BAA-4C95-9F01-52AED8BA3C4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97556FB-48DD-47BA-8833-8993F4FF2EF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E180535-C370-426E-8EC1-46B80A7FFE3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09519E-6B26-40B0-98DE-18C26C065CA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AFB92CA-E41D-4A80-A1BE-06662F1A2C1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8C6F6FB-0FD3-4524-999B-A7C83B0D31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3F9B50-D00B-4C6A-9F5F-A7BF89B4CE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B8DDD8-AEE2-4494-A57F-1EABC962D9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BB1B3A-0949-47FD-BDC9-F63E9D29F9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D92425-BB40-4215-A468-A89C93FC79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66CD36A-10D2-4602-82C2-6E60DE202E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EE86637-2A4F-4606-99ED-12AACF20C52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6DB699C-71BA-4AD0-A3DE-C8FFA49E985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D061C-CF25-4E33-AE25-B01844961D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7F4C9B-DD17-49DE-82DB-76332720E5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Arial"/>
              </a:rPr>
              <a:t>&lt;date/time&gt;</a:t>
            </a:r>
            <a:endParaRPr b="0" lang="en-US" sz="1000" spc="-1" strike="noStrike">
              <a:solidFill>
                <a:srgbClr val="000000"/>
              </a:solidFill>
              <a:latin typeface="Arial"/>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F021D-18E3-48B0-9C61-46903B9BDAA7}" type="slidenum">
              <a:rPr b="0" lang="en-US" sz="1000" spc="-1" strike="noStrike">
                <a:solidFill>
                  <a:srgbClr val="9b9a98"/>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Freeform 10"/>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4" name="Freeform 12"/>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Arial"/>
              </a:rPr>
              <a:t>&lt;date/time&gt;</a:t>
            </a:r>
            <a:endParaRPr b="0" lang="en-US" sz="1000" spc="-1" strike="noStrike">
              <a:solidFill>
                <a:srgbClr val="000000"/>
              </a:solidFill>
              <a:latin typeface="Arial"/>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B9D9E-67CC-4381-9FFB-5ABAB380A22B}" type="slidenum">
              <a:rPr b="0" lang="en-US" sz="1000" spc="-1" strike="noStrike">
                <a:solidFill>
                  <a:srgbClr val="9b9a98"/>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Freeform 10"/>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Freeform 12"/>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Arial"/>
              </a:rPr>
              <a:t>&lt;date/time&gt;</a:t>
            </a:r>
            <a:endParaRPr b="0" lang="en-US" sz="1000" spc="-1" strike="noStrike">
              <a:solidFill>
                <a:srgbClr val="000000"/>
              </a:solidFill>
              <a:latin typeface="Arial"/>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AC835-4FFE-4A4B-9F92-037F5F281887}" type="slidenum">
              <a:rPr b="0" lang="en-US" sz="1000" spc="-1" strike="noStrike">
                <a:solidFill>
                  <a:srgbClr val="9b9a98"/>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Arial"/>
              </a:rPr>
              <a:t>&lt;date/time&gt;</a:t>
            </a:r>
            <a:endParaRPr b="0" lang="en-US" sz="1000" spc="-1" strike="noStrike">
              <a:solidFill>
                <a:srgbClr val="000000"/>
              </a:solidFill>
              <a:latin typeface="Arial"/>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22452-9697-4D74-BC75-E0865EA9F5E9}" type="slidenum">
              <a:rPr b="0" lang="en-US" sz="1000" spc="-1" strike="noStrike">
                <a:solidFill>
                  <a:srgbClr val="9b9a98"/>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1"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Arial"/>
              </a:rPr>
              <a:t>&lt;date/time&gt;</a:t>
            </a:r>
            <a:endParaRPr b="0" lang="en-US" sz="1000" spc="-1" strike="noStrike">
              <a:solidFill>
                <a:srgbClr val="000000"/>
              </a:solidFill>
              <a:latin typeface="Arial"/>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C5C82-6ADB-457F-8752-BC122AC7C6B4}" type="slidenum">
              <a:rPr b="0" lang="en-US" sz="1000" spc="-1" strike="noStrike">
                <a:solidFill>
                  <a:srgbClr val="9b9a98"/>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Arial"/>
              </a:rPr>
              <a:t>&lt;date/time&gt;</a:t>
            </a:r>
            <a:endParaRPr b="0" lang="en-US" sz="1000" spc="-1" strike="noStrike">
              <a:solidFill>
                <a:srgbClr val="000000"/>
              </a:solidFill>
              <a:latin typeface="Arial"/>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D5FDF-8386-496E-ADD1-29EB372A8B2A}" type="slidenum">
              <a:rPr b="0" lang="en-US" sz="1000" spc="-1" strike="noStrike">
                <a:solidFill>
                  <a:srgbClr val="9b9a98"/>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Gas Pressure</a:t>
            </a:r>
            <a:endParaRPr b="0" lang="en-US" sz="4600" spc="-1" strike="noStrike">
              <a:solidFill>
                <a:srgbClr val="ffffff"/>
              </a:solidFill>
              <a:latin typeface="Franklin Gothic Book"/>
            </a:endParaRPr>
          </a:p>
        </p:txBody>
      </p:sp>
      <p:sp>
        <p:nvSpPr>
          <p:cNvPr id="255"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ssure that a gas exerts on a material due to particles colliding with an object.</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o particles = no collisions = vacuum</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tmospheric pressure is the gas pressure of the atmosphere on objects.</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 barometer measures the specific atmospheric pressure at certain altitudes etc.</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5</a:t>
            </a:r>
            <a:endParaRPr b="0" lang="en-US" sz="4600" spc="-1" strike="noStrike">
              <a:solidFill>
                <a:srgbClr val="ffffff"/>
              </a:solidFill>
              <a:latin typeface="Franklin Gothic Book"/>
            </a:endParaRPr>
          </a:p>
        </p:txBody>
      </p:sp>
      <p:sp>
        <p:nvSpPr>
          <p:cNvPr id="257"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an a gas exert pressure in an open container?  Explain.</a:t>
            </a:r>
            <a:endParaRPr b="0" lang="en-US" sz="30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Yes</a:t>
            </a:r>
            <a:endParaRPr b="0" lang="en-US" sz="2600" spc="-1" strike="noStrike">
              <a:solidFill>
                <a:srgbClr val="ffffff"/>
              </a:solidFill>
              <a:latin typeface="Arial"/>
            </a:endParaRPr>
          </a:p>
          <a:p>
            <a:pPr lvl="2" marL="1004760" indent="-255600">
              <a:spcBef>
                <a:spcPts val="601"/>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as pressure is the collisions of a gas to an object, regardless of it being closed or op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Barometer</a:t>
            </a:r>
            <a:endParaRPr b="0" lang="en-US" sz="4600" spc="-1" strike="noStrike">
              <a:solidFill>
                <a:srgbClr val="ffffff"/>
              </a:solidFill>
              <a:latin typeface="Franklin Gothic Book"/>
            </a:endParaRPr>
          </a:p>
        </p:txBody>
      </p:sp>
      <p:sp>
        <p:nvSpPr>
          <p:cNvPr id="259"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 barometer measures the gas pressure at certain altitudes and locations.</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atmosphere exerts pressure on a liquid in a container, sometimes mercury, and the mercury is forced into a tube with a vacuum to measure the pressure.</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6</a:t>
            </a:r>
            <a:endParaRPr b="0" lang="en-US" sz="4600" spc="-1" strike="noStrike">
              <a:solidFill>
                <a:srgbClr val="ffffff"/>
              </a:solidFill>
              <a:latin typeface="Franklin Gothic Book"/>
            </a:endParaRPr>
          </a:p>
        </p:txBody>
      </p:sp>
      <p:sp>
        <p:nvSpPr>
          <p:cNvPr id="261"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w does a barometer work?  Use drawings.</a:t>
            </a:r>
            <a:endParaRPr b="0" lang="en-US" sz="30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s explained on the previous slide, a barometer works via atmospheric pressure on a liquid.</a:t>
            </a:r>
            <a:endParaRPr b="0" lang="en-US" sz="26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pic>
        <p:nvPicPr>
          <p:cNvPr id="262" name="Picture 2" descr="http://www.barometerplanet.com/wp-content/uploads/2009/09/merc_barometer.jpg"/>
          <p:cNvPicPr/>
          <p:nvPr/>
        </p:nvPicPr>
        <p:blipFill>
          <a:blip r:embed="rId1"/>
          <a:stretch/>
        </p:blipFill>
        <p:spPr>
          <a:xfrm>
            <a:off x="1600200" y="3276720"/>
            <a:ext cx="2762280" cy="2733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Pressure Measurements</a:t>
            </a:r>
            <a:endParaRPr b="0" lang="en-US" sz="4600" spc="-1" strike="noStrike">
              <a:solidFill>
                <a:srgbClr val="ffffff"/>
              </a:solidFill>
              <a:latin typeface="Franklin Gothic Book"/>
            </a:endParaRPr>
          </a:p>
        </p:txBody>
      </p:sp>
      <p:sp>
        <p:nvSpPr>
          <p:cNvPr id="264"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 pascal (Pa) is a very small unit of pressure.  Atmospheric pressure is 100,000 pascals.</a:t>
            </a:r>
            <a:endParaRPr b="0" lang="en-US" sz="3000" spc="-1" strike="noStrike">
              <a:solidFill>
                <a:srgbClr val="ffffff"/>
              </a:solidFill>
              <a:latin typeface="Arial"/>
            </a:endParaRPr>
          </a:p>
          <a:p>
            <a:pPr marL="419040" indent="-38268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n older measurement is mm Hg, which measures the millimeters of mercury raised in a barometer.</a:t>
            </a:r>
            <a:endParaRPr b="0" lang="en-US" sz="3000" spc="-1" strike="noStrike">
              <a:solidFill>
                <a:srgbClr val="ffffff"/>
              </a:solidFill>
              <a:latin typeface="Arial"/>
            </a:endParaRPr>
          </a:p>
          <a:p>
            <a:pPr marL="419040" indent="-38268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 standard atmosphere (atm) is the pressure required to support mercury 760 mm at 25 degrees Celsius</a:t>
            </a:r>
            <a:endParaRPr b="0" lang="en-US" sz="3000" spc="-1" strike="noStrike">
              <a:solidFill>
                <a:srgbClr val="ffffff"/>
              </a:solidFill>
              <a:latin typeface="Arial"/>
            </a:endParaRPr>
          </a:p>
          <a:p>
            <a:pPr marL="419040" indent="-38268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1atm = 760 mm Hg = 101.3 Pa</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Franklin Gothic Book"/>
              </a:rPr>
              <a:t>Kinetic Energy and Temperature</a:t>
            </a:r>
            <a:endParaRPr b="0" lang="en-US" sz="4100" spc="-1" strike="noStrike">
              <a:solidFill>
                <a:srgbClr val="ffffff"/>
              </a:solidFill>
              <a:latin typeface="Franklin Gothic Book"/>
            </a:endParaRPr>
          </a:p>
        </p:txBody>
      </p:sp>
      <p:pic>
        <p:nvPicPr>
          <p:cNvPr id="266" name="" descr=""/>
          <p:cNvPicPr/>
          <p:nvPr/>
        </p:nvPicPr>
        <p:blipFill>
          <a:blip r:embed="rId1"/>
          <a:stretch/>
        </p:blipFill>
        <p:spPr>
          <a:xfrm>
            <a:off x="456840" y="1600200"/>
            <a:ext cx="7467480" cy="4525920"/>
          </a:xfrm>
          <a:prstGeom prst="rect">
            <a:avLst/>
          </a:prstGeom>
          <a:ln w="0">
            <a:noFill/>
          </a:ln>
        </p:spPr>
      </p:pic>
      <p:pic>
        <p:nvPicPr>
          <p:cNvPr id="267" name="Picture 2" descr="http://itl.chem.ufl.edu/2045/change/C15F14.GIF"/>
          <p:cNvPicPr/>
          <p:nvPr/>
        </p:nvPicPr>
        <p:blipFill>
          <a:blip r:embed="rId2"/>
          <a:stretch/>
        </p:blipFill>
        <p:spPr>
          <a:xfrm>
            <a:off x="1676520" y="1219320"/>
            <a:ext cx="5743440" cy="4305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7</a:t>
            </a:r>
            <a:endParaRPr b="0" lang="en-US" sz="4600" spc="-1" strike="noStrike">
              <a:solidFill>
                <a:srgbClr val="ffffff"/>
              </a:solidFill>
              <a:latin typeface="Franklin Gothic Book"/>
            </a:endParaRPr>
          </a:p>
        </p:txBody>
      </p:sp>
      <p:sp>
        <p:nvSpPr>
          <p:cNvPr id="269"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w does KMT (kinetic molecular theory) and the distribution curve explain temperature?</a:t>
            </a:r>
            <a:endParaRPr b="0" lang="en-US" sz="30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ld water (materials) has more molecules with low kinetic energy while warmer water (materials) has a more even distribution but much of the molecules has more kinetic energy.</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Kelvin</a:t>
            </a:r>
            <a:endParaRPr b="0" lang="en-US" sz="4600" spc="-1" strike="noStrike">
              <a:solidFill>
                <a:srgbClr val="ffffff"/>
              </a:solidFill>
              <a:latin typeface="Franklin Gothic Book"/>
            </a:endParaRPr>
          </a:p>
        </p:txBody>
      </p:sp>
      <p:sp>
        <p:nvSpPr>
          <p:cNvPr id="271"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Kelvin scale is in essence a version of the Celsius scale but the start point is absolute zero.</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bsolute zero is the temperature where all molecules, atoms and the like have no motion or KE at all</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irectly porportional to Kinetic Energy</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8</a:t>
            </a:r>
            <a:endParaRPr b="0" lang="en-US" sz="4600" spc="-1" strike="noStrike">
              <a:solidFill>
                <a:srgbClr val="ffffff"/>
              </a:solidFill>
              <a:latin typeface="Franklin Gothic Book"/>
            </a:endParaRPr>
          </a:p>
        </p:txBody>
      </p:sp>
      <p:sp>
        <p:nvSpPr>
          <p:cNvPr id="273"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hy is the Kelvin scale used in reporting temperature?</a:t>
            </a:r>
            <a:endParaRPr b="0" lang="en-US" sz="30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elvin starts at absolute zero where all the molecules and atoms have no motion whatsoever.  Kelvin is directly proportional to Kinetic energy, this makes it ideal to report the temperature of matter so there can be an idea of the kinetic energy of the matter.</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6T12:35:51Z</dcterms:created>
  <dc:creator>14rye</dc:creator>
  <dc:description/>
  <dc:language>en-US</dc:language>
  <cp:lastModifiedBy>14rye</cp:lastModifiedBy>
  <dcterms:modified xsi:type="dcterms:W3CDTF">2012-04-26T13:02:34Z</dcterms:modified>
  <cp:revision>3</cp:revision>
  <dc:subject/>
  <dc:title>Gas Pressure</dc:title>
</cp:coreProperties>
</file>